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10080625" cy="7559675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"/>
          <p:cNvSpPr/>
          <p:nvPr/>
        </p:nvSpPr>
        <p:spPr>
          <a:xfrm>
            <a:off x="0" y="0"/>
            <a:ext cx="6858000" cy="9180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80360"/>
              <a:gd name="textAreaBottom" fmla="*/ 9180000 h 9180360"/>
            </a:gdLst>
            <a:ahLst/>
            <a:rect l="textAreaLeft" t="textAreaTop" r="textAreaRight" b="textAreaBottom"/>
            <a:pathLst>
              <a:path w="21600" h="28914">
                <a:moveTo>
                  <a:pt x="4" y="0"/>
                </a:moveTo>
                <a:arcTo wR="4" hR="4" stAng="16200000" swAng="-5400000"/>
                <a:lnTo>
                  <a:pt x="0" y="28910"/>
                </a:lnTo>
                <a:arcTo wR="4" hR="4" stAng="10800000" swAng="-5400000"/>
                <a:lnTo>
                  <a:pt x="21596" y="2891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0" y="0"/>
            <a:ext cx="6858000" cy="9180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80360"/>
              <a:gd name="textAreaBottom" fmla="*/ 9180000 h 9180360"/>
            </a:gdLst>
            <a:ahLst/>
            <a:rect l="textAreaLeft" t="textAreaTop" r="textAreaRight" b="textAreaBottom"/>
            <a:pathLst>
              <a:path w="21600" h="28914">
                <a:moveTo>
                  <a:pt x="4" y="0"/>
                </a:moveTo>
                <a:arcTo wR="4" hR="4" stAng="16200000" swAng="-5400000"/>
                <a:lnTo>
                  <a:pt x="0" y="28910"/>
                </a:lnTo>
                <a:arcTo wR="4" hR="4" stAng="10800000" swAng="-5400000"/>
                <a:lnTo>
                  <a:pt x="21596" y="2891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0" y="0"/>
            <a:ext cx="6858000" cy="9180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80360"/>
              <a:gd name="textAreaBottom" fmla="*/ 9180000 h 9180360"/>
            </a:gdLst>
            <a:ahLst/>
            <a:rect l="textAreaLeft" t="textAreaTop" r="textAreaRight" b="textAreaBottom"/>
            <a:pathLst>
              <a:path w="21600" h="28914">
                <a:moveTo>
                  <a:pt x="4" y="0"/>
                </a:moveTo>
                <a:arcTo wR="4" hR="4" stAng="16200000" swAng="-5400000"/>
                <a:lnTo>
                  <a:pt x="0" y="28910"/>
                </a:lnTo>
                <a:arcTo wR="4" hR="4" stAng="10800000" swAng="-5400000"/>
                <a:lnTo>
                  <a:pt x="21596" y="2891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35080" y="696600"/>
            <a:ext cx="4581360" cy="34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440" y="4358880"/>
            <a:ext cx="548172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10"/>
          </p:nvPr>
        </p:nvSpPr>
        <p:spPr>
          <a:xfrm>
            <a:off x="3881520" y="-360"/>
            <a:ext cx="2970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11"/>
          </p:nvPr>
        </p:nvSpPr>
        <p:spPr>
          <a:xfrm>
            <a:off x="-360" y="8721360"/>
            <a:ext cx="2970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2"/>
          </p:nvPr>
        </p:nvSpPr>
        <p:spPr>
          <a:xfrm>
            <a:off x="3881520" y="8721360"/>
            <a:ext cx="29700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0BA37-1F9E-47C4-BC38-B5B55E5D4543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9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085E6-D0D4-48B4-AB9C-C73F411240CF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1"/>
          <p:cNvSpPr/>
          <p:nvPr/>
        </p:nvSpPr>
        <p:spPr>
          <a:xfrm>
            <a:off x="1209600" y="696960"/>
            <a:ext cx="443880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685440" y="4358880"/>
            <a:ext cx="54831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9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6C39A-5F0C-4C69-8CC4-04E676E58BE8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"/>
          <p:cNvSpPr/>
          <p:nvPr/>
        </p:nvSpPr>
        <p:spPr>
          <a:xfrm>
            <a:off x="1209600" y="696960"/>
            <a:ext cx="443700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685440" y="4358880"/>
            <a:ext cx="54831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9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734FA-7DCE-444B-B7BE-55AD5C904654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"/>
          <p:cNvSpPr/>
          <p:nvPr/>
        </p:nvSpPr>
        <p:spPr>
          <a:xfrm>
            <a:off x="1209600" y="696960"/>
            <a:ext cx="4434120" cy="343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685440" y="4358880"/>
            <a:ext cx="54831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9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53E94-7257-440A-98C4-8EDA297E190B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1"/>
          <p:cNvSpPr/>
          <p:nvPr/>
        </p:nvSpPr>
        <p:spPr>
          <a:xfrm>
            <a:off x="1209600" y="696960"/>
            <a:ext cx="443700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685440" y="4358880"/>
            <a:ext cx="54831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ADB3C-F7DB-4A93-8E56-A70FC0AE7D61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35080" y="696960"/>
            <a:ext cx="4586400" cy="34416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58880"/>
            <a:ext cx="5486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1DA53-1A7F-4A59-A8A4-E3A615C8F0B0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35080" y="696960"/>
            <a:ext cx="4586400" cy="34416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58880"/>
            <a:ext cx="5486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22386-A8F3-42F0-9736-3C1ABB3ADDBB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35080" y="696960"/>
            <a:ext cx="4586400" cy="34416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58880"/>
            <a:ext cx="5486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DA216-E24C-44D6-9AA8-A382EBB20876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35080" y="696960"/>
            <a:ext cx="4586400" cy="34416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58880"/>
            <a:ext cx="5486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BE280-2AB7-4F0F-B180-ED25BACCE781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35080" y="696960"/>
            <a:ext cx="4586400" cy="34416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58880"/>
            <a:ext cx="5486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FAC48-97EB-478E-89E2-AA3567B2FF03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35080" y="696960"/>
            <a:ext cx="4586400" cy="34416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58880"/>
            <a:ext cx="5486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9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3FB5B-232E-4DD4-B2AC-81F67D835A8A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1"/>
          <p:cNvSpPr/>
          <p:nvPr/>
        </p:nvSpPr>
        <p:spPr>
          <a:xfrm>
            <a:off x="1209600" y="696960"/>
            <a:ext cx="4434120" cy="343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685440" y="4358880"/>
            <a:ext cx="54831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9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D55B4-802A-41C9-8C50-DEB4D0B372D0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1"/>
          <p:cNvSpPr/>
          <p:nvPr/>
        </p:nvSpPr>
        <p:spPr>
          <a:xfrm>
            <a:off x="1209600" y="696960"/>
            <a:ext cx="4435560" cy="34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440" y="4358880"/>
            <a:ext cx="54831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9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ECF33-AB80-409B-B770-3B37598A1DB7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"/>
          <p:cNvSpPr/>
          <p:nvPr/>
        </p:nvSpPr>
        <p:spPr>
          <a:xfrm>
            <a:off x="1209600" y="696960"/>
            <a:ext cx="443700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685440" y="4358880"/>
            <a:ext cx="54831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9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74543-5DA0-47E0-9274-AA9340D0E9A3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"/>
          <p:cNvSpPr/>
          <p:nvPr/>
        </p:nvSpPr>
        <p:spPr>
          <a:xfrm>
            <a:off x="1209600" y="696960"/>
            <a:ext cx="443700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685440" y="4358880"/>
            <a:ext cx="54831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02A31-9734-438D-B532-815CF7CF31BB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35080" y="696960"/>
            <a:ext cx="4586400" cy="34416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58880"/>
            <a:ext cx="5486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750F6-859D-4B46-A0FC-D841FAB313F0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1"/>
          <p:cNvSpPr/>
          <p:nvPr/>
        </p:nvSpPr>
        <p:spPr>
          <a:xfrm>
            <a:off x="1209600" y="696960"/>
            <a:ext cx="443700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685440" y="4358880"/>
            <a:ext cx="54831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0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E977A-D362-4AF9-BA48-B7F6A5442552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1"/>
          <p:cNvSpPr/>
          <p:nvPr/>
        </p:nvSpPr>
        <p:spPr>
          <a:xfrm>
            <a:off x="1209600" y="696960"/>
            <a:ext cx="4437000" cy="34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686880" y="4361040"/>
            <a:ext cx="548028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0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10740-B732-4C20-A00B-42C3B8B3CB2B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"/>
          <p:cNvSpPr/>
          <p:nvPr/>
        </p:nvSpPr>
        <p:spPr>
          <a:xfrm>
            <a:off x="1209600" y="696960"/>
            <a:ext cx="4435560" cy="343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686880" y="4361040"/>
            <a:ext cx="548028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9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C440A-44CB-4F61-8297-2E165AA060CF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"/>
          <p:cNvSpPr/>
          <p:nvPr/>
        </p:nvSpPr>
        <p:spPr>
          <a:xfrm>
            <a:off x="1209600" y="696960"/>
            <a:ext cx="443088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685440" y="4358880"/>
            <a:ext cx="54831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9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6965A-C614-4AEE-8648-7E05297506C2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"/>
          <p:cNvSpPr/>
          <p:nvPr/>
        </p:nvSpPr>
        <p:spPr>
          <a:xfrm>
            <a:off x="1209600" y="696960"/>
            <a:ext cx="443088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685440" y="4358880"/>
            <a:ext cx="54831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F4DF-206B-40E1-8E67-006577FA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D7B8-360F-4FDF-97D2-C992B510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57E-0DBC-4B8D-8FE6-2A428989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4FF0-4C46-4D23-8C91-EA863798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E1BD-13BE-4090-84AF-131E97D8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A024-7715-432B-9015-7D0910F9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FFCE-9EBE-43CF-B657-496E0F89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3133-8430-414F-9424-A3F78CB9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4A84-0FD3-4314-9D17-E0110C8D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428480" y="303120"/>
            <a:ext cx="764388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03E2-453B-40A7-95E8-7FCB0DF4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0D4C-9EDE-44E1-9056-E53C2B10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89E2-26D9-4E7D-90C3-EB04E0A0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8C0E-C361-48FC-A5B8-A6AD4711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FCD6-C448-4F5D-9C5E-23B0BB3B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B399-0BBE-4A64-BC88-5AD4788A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49EE-200A-4365-8882-89DFD234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5444-0366-4388-B8E7-FAEF8712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C5396-7CDF-4D62-85D0-AB690BA2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F82BC-E758-4105-B627-A7707C17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605F1-630B-40A6-927D-00452980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8CD75-DA11-4ED3-A4C0-DAC75AD9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31C04-0E2F-4096-ABE1-F7A86C98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206-10A7-406E-A1F2-6C5216C1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428480" y="303120"/>
            <a:ext cx="764388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F983E-9E41-4264-A0E7-3A5DC56A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54EA8-BD4B-4647-B419-9720B591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0A154-223F-4D51-9F94-3C52B391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58AAE-B5C6-42CF-B96C-1D66E9F3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B2219-EEE6-4D37-971A-5D8EC7FC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CA5B8-5A4C-4E18-A1A7-DABD2EE6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A8B36-2ED6-47A2-AC4C-1173025F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D59-ADA0-4C50-8E6D-35402C02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0F8E-7719-46CA-BF67-15C16B61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28480" y="303120"/>
            <a:ext cx="764388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D723-0B82-41D9-BDE2-AEE789E7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4140-6BB2-428F-8FFB-2BBEF281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E4D-A15F-4963-8478-7EB7DDF7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4C80-4E0A-4703-81D2-7BE6A58C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BA857-B1DE-42D2-B9EE-0E7C2012C628}" type="datetime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D6487-2189-4E09-978E-11A30533D58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OSDIS2006logo"/>
          <p:cNvPicPr/>
          <p:nvPr/>
        </p:nvPicPr>
        <p:blipFill>
          <a:blip r:embed="rId2"/>
          <a:stretch/>
        </p:blipFill>
        <p:spPr>
          <a:xfrm>
            <a:off x="84240" y="0"/>
            <a:ext cx="1333440" cy="102060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8"/>
          <p:cNvGrpSpPr/>
          <p:nvPr/>
        </p:nvGrpSpPr>
        <p:grpSpPr>
          <a:xfrm>
            <a:off x="168120" y="1008000"/>
            <a:ext cx="9828000" cy="85320"/>
            <a:chOff x="168120" y="1008000"/>
            <a:chExt cx="9828000" cy="85320"/>
          </a:xfrm>
        </p:grpSpPr>
        <p:sp>
          <p:nvSpPr>
            <p:cNvPr id="7" name="Line 9"/>
            <p:cNvSpPr/>
            <p:nvPr/>
          </p:nvSpPr>
          <p:spPr>
            <a:xfrm>
              <a:off x="168120" y="1008000"/>
              <a:ext cx="982800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Line 10"/>
            <p:cNvSpPr/>
            <p:nvPr/>
          </p:nvSpPr>
          <p:spPr>
            <a:xfrm>
              <a:off x="168120" y="1093320"/>
              <a:ext cx="9828000" cy="0"/>
            </a:xfrm>
            <a:prstGeom prst="line">
              <a:avLst/>
            </a:prstGeom>
            <a:ln w="50760">
              <a:solidFill>
                <a:srgbClr val="a2c1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" name="Picture 11" descr="nasa_3D"/>
          <p:cNvPicPr/>
          <p:nvPr/>
        </p:nvPicPr>
        <p:blipFill>
          <a:blip r:embed="rId3"/>
          <a:stretch/>
        </p:blipFill>
        <p:spPr>
          <a:xfrm>
            <a:off x="8904240" y="73080"/>
            <a:ext cx="1176480" cy="93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292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56666-7150-4A1D-8343-24324326C056}" type="datetime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000DA-0B08-4291-920D-BCBF8107D400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EOSDIS2006logo"/>
          <p:cNvPicPr/>
          <p:nvPr/>
        </p:nvPicPr>
        <p:blipFill>
          <a:blip r:embed="rId2"/>
          <a:stretch/>
        </p:blipFill>
        <p:spPr>
          <a:xfrm>
            <a:off x="84240" y="0"/>
            <a:ext cx="1333440" cy="10206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8"/>
          <p:cNvGrpSpPr/>
          <p:nvPr/>
        </p:nvGrpSpPr>
        <p:grpSpPr>
          <a:xfrm>
            <a:off x="168120" y="1008000"/>
            <a:ext cx="9828000" cy="85320"/>
            <a:chOff x="168120" y="1008000"/>
            <a:chExt cx="9828000" cy="85320"/>
          </a:xfrm>
        </p:grpSpPr>
        <p:sp>
          <p:nvSpPr>
            <p:cNvPr id="53" name="Line 9"/>
            <p:cNvSpPr/>
            <p:nvPr/>
          </p:nvSpPr>
          <p:spPr>
            <a:xfrm>
              <a:off x="168120" y="1008000"/>
              <a:ext cx="982800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10"/>
            <p:cNvSpPr/>
            <p:nvPr/>
          </p:nvSpPr>
          <p:spPr>
            <a:xfrm>
              <a:off x="168120" y="1093320"/>
              <a:ext cx="9828000" cy="0"/>
            </a:xfrm>
            <a:prstGeom prst="line">
              <a:avLst/>
            </a:prstGeom>
            <a:ln w="50760">
              <a:solidFill>
                <a:srgbClr val="a2c1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" name="Picture 11" descr="nasa_3D"/>
          <p:cNvPicPr/>
          <p:nvPr/>
        </p:nvPicPr>
        <p:blipFill>
          <a:blip r:embed="rId3"/>
          <a:stretch/>
        </p:blipFill>
        <p:spPr>
          <a:xfrm>
            <a:off x="8904240" y="73080"/>
            <a:ext cx="1176480" cy="93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EOSDIS2006logo"/>
          <p:cNvPicPr/>
          <p:nvPr/>
        </p:nvPicPr>
        <p:blipFill>
          <a:blip r:embed="rId2"/>
          <a:stretch/>
        </p:blipFill>
        <p:spPr>
          <a:xfrm>
            <a:off x="84240" y="0"/>
            <a:ext cx="1333440" cy="10206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8"/>
          <p:cNvGrpSpPr/>
          <p:nvPr/>
        </p:nvGrpSpPr>
        <p:grpSpPr>
          <a:xfrm>
            <a:off x="168120" y="1008000"/>
            <a:ext cx="9828000" cy="85320"/>
            <a:chOff x="168120" y="1008000"/>
            <a:chExt cx="9828000" cy="85320"/>
          </a:xfrm>
        </p:grpSpPr>
        <p:sp>
          <p:nvSpPr>
            <p:cNvPr id="94" name="Line 9"/>
            <p:cNvSpPr/>
            <p:nvPr/>
          </p:nvSpPr>
          <p:spPr>
            <a:xfrm>
              <a:off x="168120" y="1008000"/>
              <a:ext cx="982800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168120" y="1093320"/>
              <a:ext cx="9828000" cy="0"/>
            </a:xfrm>
            <a:prstGeom prst="line">
              <a:avLst/>
            </a:prstGeom>
            <a:ln w="50760">
              <a:solidFill>
                <a:srgbClr val="a2c1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6" name="Picture 11" descr="nasa_3D"/>
          <p:cNvPicPr/>
          <p:nvPr/>
        </p:nvPicPr>
        <p:blipFill>
          <a:blip r:embed="rId3"/>
          <a:stretch/>
        </p:blipFill>
        <p:spPr>
          <a:xfrm>
            <a:off x="8904240" y="73080"/>
            <a:ext cx="1176480" cy="934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50292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81A16-4EC8-4371-B97D-0CFA7E01C8FA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aac.gsfc.nasa.gov/" TargetMode="External"/><Relationship Id="rId2" Type="http://schemas.openxmlformats.org/officeDocument/2006/relationships/hyperlink" Target="http://gcmd.nasa.gov/" TargetMode="External"/><Relationship Id="rId3" Type="http://schemas.openxmlformats.org/officeDocument/2006/relationships/hyperlink" Target="https://wist.echo.nasa.gov/~wist/api/imswelcome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30B1C-C1A9-40B3-A8AE-9E8E22CD4C0D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-360" y="1814040"/>
            <a:ext cx="9070920" cy="2575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Nimbus II Permanent Record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382760" y="4923000"/>
            <a:ext cx="6400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378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OSDIS Science Operations, ESDIS Project Code 42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oddard Space Flight Center, Greenbelt, MD 2077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SIP Federation Meeting, Santa Barbara, C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July 9,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73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Nimbus II HRIR file data structu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7EADD-FFB1-40F3-8AB0-E116A1D2485C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4343400" y="1652760"/>
            <a:ext cx="4191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AP Format Header: 32 bit inte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t 0-30: length of reco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t 31: 0: good record, 1 problem in data record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ero value indicates file ma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consecutive headers with zero indicates end of tape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 rot="5400000">
            <a:off x="1653840" y="3738600"/>
            <a:ext cx="2897280" cy="789120"/>
          </a:xfrm>
          <a:prstGeom prst="roundRect">
            <a:avLst>
              <a:gd name="adj" fmla="val 93"/>
            </a:avLst>
          </a:prstGeom>
          <a:noFill/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 flipH="1">
            <a:off x="2663640" y="2854440"/>
            <a:ext cx="788760" cy="1440"/>
          </a:xfrm>
          <a:prstGeom prst="line">
            <a:avLst/>
          </a:prstGeom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770200" y="3030480"/>
            <a:ext cx="63324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Orbit Doc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6"/>
          <p:cNvSpPr/>
          <p:nvPr/>
        </p:nvSpPr>
        <p:spPr>
          <a:xfrm flipH="1">
            <a:off x="2666880" y="3013200"/>
            <a:ext cx="789120" cy="1440"/>
          </a:xfrm>
          <a:prstGeom prst="line">
            <a:avLst/>
          </a:prstGeom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 rot="5400000">
            <a:off x="1357560" y="2726280"/>
            <a:ext cx="6444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2646360" y="2859120"/>
            <a:ext cx="757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AP Header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2708280" y="2687760"/>
            <a:ext cx="693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AP Header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658960" y="3238560"/>
            <a:ext cx="7700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AP Header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2712960" y="3583080"/>
            <a:ext cx="689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ata  Record1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2665440" y="4029120"/>
            <a:ext cx="7700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AP Header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2665440" y="4243320"/>
            <a:ext cx="75888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ata  Record2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2651040" y="3867120"/>
            <a:ext cx="795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AP Header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2665440" y="4875120"/>
            <a:ext cx="774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ata Record N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662200" y="5062680"/>
            <a:ext cx="7668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AP Header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2689200" y="4519440"/>
            <a:ext cx="714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AP Header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 rot="5400000">
            <a:off x="2970360" y="4704480"/>
            <a:ext cx="169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1376280" y="3390840"/>
            <a:ext cx="11718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ata Record1 size =&gt;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1363680" y="3870360"/>
            <a:ext cx="1150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ata Record 1 size =&gt;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>
            <a:off x="1344600" y="4044960"/>
            <a:ext cx="1154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ata Record 2 size =&gt;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1712880" y="5232240"/>
            <a:ext cx="798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end of file =&gt;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3"/>
          <p:cNvSpPr/>
          <p:nvPr/>
        </p:nvSpPr>
        <p:spPr>
          <a:xfrm>
            <a:off x="2670120" y="3397320"/>
            <a:ext cx="7700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AP Header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4"/>
          <p:cNvSpPr/>
          <p:nvPr/>
        </p:nvSpPr>
        <p:spPr>
          <a:xfrm>
            <a:off x="1446120" y="3252960"/>
            <a:ext cx="10828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Orbit Doc rec size =&gt;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5"/>
          <p:cNvSpPr/>
          <p:nvPr/>
        </p:nvSpPr>
        <p:spPr>
          <a:xfrm>
            <a:off x="1352520" y="4532400"/>
            <a:ext cx="1154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ata Record 2 size =&gt;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26"/>
          <p:cNvSpPr/>
          <p:nvPr/>
        </p:nvSpPr>
        <p:spPr>
          <a:xfrm>
            <a:off x="2670120" y="5411880"/>
            <a:ext cx="7668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AP Header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7"/>
          <p:cNvSpPr/>
          <p:nvPr/>
        </p:nvSpPr>
        <p:spPr>
          <a:xfrm>
            <a:off x="1368360" y="5081760"/>
            <a:ext cx="115416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ata Record N size =&gt;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8"/>
          <p:cNvSpPr/>
          <p:nvPr/>
        </p:nvSpPr>
        <p:spPr>
          <a:xfrm>
            <a:off x="2678040" y="5237280"/>
            <a:ext cx="7668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AP Header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9"/>
          <p:cNvSpPr/>
          <p:nvPr/>
        </p:nvSpPr>
        <p:spPr>
          <a:xfrm>
            <a:off x="1704960" y="5403960"/>
            <a:ext cx="814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End of file =&gt;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30"/>
          <p:cNvSpPr/>
          <p:nvPr/>
        </p:nvSpPr>
        <p:spPr>
          <a:xfrm rot="5400000">
            <a:off x="2988000" y="5821920"/>
            <a:ext cx="141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31"/>
          <p:cNvSpPr/>
          <p:nvPr/>
        </p:nvSpPr>
        <p:spPr>
          <a:xfrm flipH="1">
            <a:off x="2666880" y="3238560"/>
            <a:ext cx="789120" cy="1440"/>
          </a:xfrm>
          <a:prstGeom prst="line">
            <a:avLst/>
          </a:prstGeom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32"/>
          <p:cNvSpPr/>
          <p:nvPr/>
        </p:nvSpPr>
        <p:spPr>
          <a:xfrm flipH="1">
            <a:off x="2666880" y="3390840"/>
            <a:ext cx="789120" cy="1800"/>
          </a:xfrm>
          <a:prstGeom prst="line">
            <a:avLst/>
          </a:prstGeom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33"/>
          <p:cNvSpPr/>
          <p:nvPr/>
        </p:nvSpPr>
        <p:spPr>
          <a:xfrm flipH="1">
            <a:off x="2663640" y="3543480"/>
            <a:ext cx="788760" cy="1440"/>
          </a:xfrm>
          <a:prstGeom prst="line">
            <a:avLst/>
          </a:prstGeom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34"/>
          <p:cNvSpPr/>
          <p:nvPr/>
        </p:nvSpPr>
        <p:spPr>
          <a:xfrm flipH="1">
            <a:off x="2670120" y="3865680"/>
            <a:ext cx="789120" cy="1440"/>
          </a:xfrm>
          <a:prstGeom prst="line">
            <a:avLst/>
          </a:prstGeom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35"/>
          <p:cNvSpPr/>
          <p:nvPr/>
        </p:nvSpPr>
        <p:spPr>
          <a:xfrm flipH="1">
            <a:off x="2663640" y="4024440"/>
            <a:ext cx="788760" cy="1440"/>
          </a:xfrm>
          <a:prstGeom prst="line">
            <a:avLst/>
          </a:prstGeom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36"/>
          <p:cNvSpPr/>
          <p:nvPr/>
        </p:nvSpPr>
        <p:spPr>
          <a:xfrm flipH="1">
            <a:off x="2662200" y="4183200"/>
            <a:ext cx="789120" cy="1440"/>
          </a:xfrm>
          <a:prstGeom prst="line">
            <a:avLst/>
          </a:prstGeom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37"/>
          <p:cNvSpPr/>
          <p:nvPr/>
        </p:nvSpPr>
        <p:spPr>
          <a:xfrm flipH="1">
            <a:off x="2663640" y="4497480"/>
            <a:ext cx="788760" cy="1440"/>
          </a:xfrm>
          <a:prstGeom prst="line">
            <a:avLst/>
          </a:prstGeom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8"/>
          <p:cNvSpPr/>
          <p:nvPr/>
        </p:nvSpPr>
        <p:spPr>
          <a:xfrm flipH="1">
            <a:off x="2663640" y="4664160"/>
            <a:ext cx="788760" cy="1440"/>
          </a:xfrm>
          <a:prstGeom prst="line">
            <a:avLst/>
          </a:prstGeom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9"/>
          <p:cNvSpPr/>
          <p:nvPr/>
        </p:nvSpPr>
        <p:spPr>
          <a:xfrm flipH="1">
            <a:off x="2663640" y="5052960"/>
            <a:ext cx="788760" cy="1800"/>
          </a:xfrm>
          <a:prstGeom prst="line">
            <a:avLst/>
          </a:prstGeom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40"/>
          <p:cNvSpPr/>
          <p:nvPr/>
        </p:nvSpPr>
        <p:spPr>
          <a:xfrm flipH="1">
            <a:off x="2663640" y="5218200"/>
            <a:ext cx="788760" cy="1440"/>
          </a:xfrm>
          <a:prstGeom prst="line">
            <a:avLst/>
          </a:prstGeom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41"/>
          <p:cNvSpPr/>
          <p:nvPr/>
        </p:nvSpPr>
        <p:spPr>
          <a:xfrm flipH="1">
            <a:off x="2663640" y="5372280"/>
            <a:ext cx="788760" cy="1440"/>
          </a:xfrm>
          <a:prstGeom prst="line">
            <a:avLst/>
          </a:prstGeom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42"/>
          <p:cNvSpPr/>
          <p:nvPr/>
        </p:nvSpPr>
        <p:spPr>
          <a:xfrm>
            <a:off x="1774800" y="2700360"/>
            <a:ext cx="646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File 1 Mark=&gt;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43"/>
          <p:cNvSpPr/>
          <p:nvPr/>
        </p:nvSpPr>
        <p:spPr>
          <a:xfrm>
            <a:off x="1603440" y="2847960"/>
            <a:ext cx="8730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Orbit Doc rec size=&gt;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44"/>
          <p:cNvSpPr/>
          <p:nvPr/>
        </p:nvSpPr>
        <p:spPr>
          <a:xfrm>
            <a:off x="4417920" y="2976120"/>
            <a:ext cx="3733920" cy="829440"/>
          </a:xfrm>
          <a:prstGeom prst="roundRect">
            <a:avLst>
              <a:gd name="adj" fmla="val 74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Orbit Documentation (one per file)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20840" indent="-21132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rt and end Date and time (May 1966- Nov. 1966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20840" indent="-21132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rbit number (93-2200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20840" indent="-21132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umber of location anchor points (31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20840" indent="-21132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wath size (in words) and number of swaths (424-436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5"/>
          <p:cNvSpPr/>
          <p:nvPr/>
        </p:nvSpPr>
        <p:spPr>
          <a:xfrm>
            <a:off x="4435560" y="4119480"/>
            <a:ext cx="2438280" cy="7621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ata Record document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rt and end date and tim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itch, yaw, roll erro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ardware statu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adir angles for anchor points (31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46"/>
          <p:cNvSpPr/>
          <p:nvPr/>
        </p:nvSpPr>
        <p:spPr>
          <a:xfrm>
            <a:off x="4435560" y="4957920"/>
            <a:ext cx="1260360" cy="228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wath #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47"/>
          <p:cNvSpPr/>
          <p:nvPr/>
        </p:nvSpPr>
        <p:spPr>
          <a:xfrm>
            <a:off x="4435560" y="5643720"/>
            <a:ext cx="1260360" cy="1440"/>
          </a:xfrm>
          <a:prstGeom prst="line">
            <a:avLst/>
          </a:prstGeom>
          <a:ln w="367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48"/>
          <p:cNvSpPr/>
          <p:nvPr/>
        </p:nvSpPr>
        <p:spPr>
          <a:xfrm>
            <a:off x="7048440" y="4838760"/>
            <a:ext cx="2568600" cy="884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101520" indent="-101520">
              <a:lnSpc>
                <a:spcPct val="87000"/>
              </a:lnSpc>
              <a:tabLst>
                <a:tab algn="l" pos="0"/>
                <a:tab algn="l" pos="101520"/>
                <a:tab algn="l" pos="558720"/>
                <a:tab algn="l" pos="1015920"/>
                <a:tab algn="l" pos="1473120"/>
                <a:tab algn="l" pos="1930320"/>
                <a:tab algn="l" pos="2387520"/>
                <a:tab algn="l" pos="2844720"/>
                <a:tab algn="l" pos="3301920"/>
                <a:tab algn="l" pos="3759120"/>
                <a:tab algn="l" pos="4216320"/>
                <a:tab algn="l" pos="4673520"/>
                <a:tab algn="l" pos="5130720"/>
                <a:tab algn="l" pos="5587920"/>
                <a:tab algn="l" pos="6045120"/>
                <a:tab algn="l" pos="6502320"/>
                <a:tab algn="l" pos="6959520"/>
                <a:tab algn="l" pos="7416720"/>
                <a:tab algn="l" pos="7873920"/>
                <a:tab algn="l" pos="8331120"/>
                <a:tab algn="l" pos="8788320"/>
                <a:tab algn="l" pos="924552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Swath Document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1520" indent="-101520">
              <a:lnSpc>
                <a:spcPct val="87000"/>
              </a:lnSpc>
              <a:tabLst>
                <a:tab algn="l" pos="0"/>
                <a:tab algn="l" pos="101520"/>
                <a:tab algn="l" pos="558720"/>
                <a:tab algn="l" pos="1015920"/>
                <a:tab algn="l" pos="1473120"/>
                <a:tab algn="l" pos="1930320"/>
                <a:tab algn="l" pos="2387520"/>
                <a:tab algn="l" pos="2844720"/>
                <a:tab algn="l" pos="3301920"/>
                <a:tab algn="l" pos="3759120"/>
                <a:tab algn="l" pos="4216320"/>
                <a:tab algn="l" pos="4673520"/>
                <a:tab algn="l" pos="5130720"/>
                <a:tab algn="l" pos="5587920"/>
                <a:tab algn="l" pos="6045120"/>
                <a:tab algn="l" pos="6502320"/>
                <a:tab algn="l" pos="6959520"/>
                <a:tab algn="l" pos="7416720"/>
                <a:tab algn="l" pos="7873920"/>
                <a:tab algn="l" pos="8331120"/>
                <a:tab algn="l" pos="8788320"/>
                <a:tab algn="l" pos="924552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wath data start tim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1520" indent="-101520">
              <a:lnSpc>
                <a:spcPct val="87000"/>
              </a:lnSpc>
              <a:tabLst>
                <a:tab algn="l" pos="0"/>
                <a:tab algn="l" pos="101520"/>
                <a:tab algn="l" pos="558720"/>
                <a:tab algn="l" pos="1015920"/>
                <a:tab algn="l" pos="1473120"/>
                <a:tab algn="l" pos="1930320"/>
                <a:tab algn="l" pos="2387520"/>
                <a:tab algn="l" pos="2844720"/>
                <a:tab algn="l" pos="3301920"/>
                <a:tab algn="l" pos="3759120"/>
                <a:tab algn="l" pos="4216320"/>
                <a:tab algn="l" pos="4673520"/>
                <a:tab algn="l" pos="5130720"/>
                <a:tab algn="l" pos="5587920"/>
                <a:tab algn="l" pos="6045120"/>
                <a:tab algn="l" pos="6502320"/>
                <a:tab algn="l" pos="6959520"/>
                <a:tab algn="l" pos="7416720"/>
                <a:tab algn="l" pos="7873920"/>
                <a:tab algn="l" pos="8331120"/>
                <a:tab algn="l" pos="8788320"/>
                <a:tab algn="l" pos="924552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umber of samples in swath (424-434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1520" indent="-101520">
              <a:lnSpc>
                <a:spcPct val="87000"/>
              </a:lnSpc>
              <a:tabLst>
                <a:tab algn="l" pos="0"/>
                <a:tab algn="l" pos="101520"/>
                <a:tab algn="l" pos="558720"/>
                <a:tab algn="l" pos="1015920"/>
                <a:tab algn="l" pos="1473120"/>
                <a:tab algn="l" pos="1930320"/>
                <a:tab algn="l" pos="2387520"/>
                <a:tab algn="l" pos="2844720"/>
                <a:tab algn="l" pos="3301920"/>
                <a:tab algn="l" pos="3759120"/>
                <a:tab algn="l" pos="4216320"/>
                <a:tab algn="l" pos="4673520"/>
                <a:tab algn="l" pos="5130720"/>
                <a:tab algn="l" pos="5587920"/>
                <a:tab algn="l" pos="6045120"/>
                <a:tab algn="l" pos="6502320"/>
                <a:tab algn="l" pos="6959520"/>
                <a:tab algn="l" pos="7416720"/>
                <a:tab algn="l" pos="7873920"/>
                <a:tab algn="l" pos="8331120"/>
                <a:tab algn="l" pos="8788320"/>
                <a:tab algn="l" pos="924552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b- satellite Latitude and longitud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1520" indent="-101520">
              <a:lnSpc>
                <a:spcPct val="87000"/>
              </a:lnSpc>
              <a:tabLst>
                <a:tab algn="l" pos="0"/>
                <a:tab algn="l" pos="101520"/>
                <a:tab algn="l" pos="558720"/>
                <a:tab algn="l" pos="1015920"/>
                <a:tab algn="l" pos="1473120"/>
                <a:tab algn="l" pos="1930320"/>
                <a:tab algn="l" pos="2387520"/>
                <a:tab algn="l" pos="2844720"/>
                <a:tab algn="l" pos="3301920"/>
                <a:tab algn="l" pos="3759120"/>
                <a:tab algn="l" pos="4216320"/>
                <a:tab algn="l" pos="4673520"/>
                <a:tab algn="l" pos="5130720"/>
                <a:tab algn="l" pos="5587920"/>
                <a:tab algn="l" pos="6045120"/>
                <a:tab algn="l" pos="6502320"/>
                <a:tab algn="l" pos="6959520"/>
                <a:tab algn="l" pos="7416720"/>
                <a:tab algn="l" pos="7873920"/>
                <a:tab algn="l" pos="8331120"/>
                <a:tab algn="l" pos="8788320"/>
                <a:tab algn="l" pos="924552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chor point latitudes and longitudes (31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1520" indent="-101520">
              <a:lnSpc>
                <a:spcPct val="87000"/>
              </a:lnSpc>
              <a:tabLst>
                <a:tab algn="l" pos="0"/>
                <a:tab algn="l" pos="101520"/>
                <a:tab algn="l" pos="558720"/>
                <a:tab algn="l" pos="1015920"/>
                <a:tab algn="l" pos="1473120"/>
                <a:tab algn="l" pos="1930320"/>
                <a:tab algn="l" pos="2387520"/>
                <a:tab algn="l" pos="2844720"/>
                <a:tab algn="l" pos="3301920"/>
                <a:tab algn="l" pos="3759120"/>
                <a:tab algn="l" pos="4216320"/>
                <a:tab algn="l" pos="4673520"/>
                <a:tab algn="l" pos="5130720"/>
                <a:tab algn="l" pos="5587920"/>
                <a:tab algn="l" pos="6045120"/>
                <a:tab algn="l" pos="6502320"/>
                <a:tab algn="l" pos="6959520"/>
                <a:tab algn="l" pos="7416720"/>
                <a:tab algn="l" pos="7873920"/>
                <a:tab algn="l" pos="8331120"/>
                <a:tab algn="l" pos="8788320"/>
                <a:tab algn="l" pos="924552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strument status fla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9"/>
          <p:cNvSpPr/>
          <p:nvPr/>
        </p:nvSpPr>
        <p:spPr>
          <a:xfrm>
            <a:off x="7032600" y="5878440"/>
            <a:ext cx="2584440" cy="3747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wath Dat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24-434 temperature measurement samp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50"/>
          <p:cNvSpPr/>
          <p:nvPr/>
        </p:nvSpPr>
        <p:spPr>
          <a:xfrm flipH="1" flipV="1" rot="10800000">
            <a:off x="4099320" y="1651680"/>
            <a:ext cx="228600" cy="1066680"/>
          </a:xfrm>
          <a:custGeom>
            <a:avLst/>
            <a:gdLst>
              <a:gd name="textAreaLeft" fmla="*/ 145800 w 228600"/>
              <a:gd name="textAreaRight" fmla="*/ 228600 w 228600"/>
              <a:gd name="textAreaTop" fmla="*/ 32040 h 1066680"/>
              <a:gd name="textAreaBottom" fmla="*/ 103464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8"/>
                  <a:pt x="10800" y="2076"/>
                </a:cubicBezTo>
                <a:lnTo>
                  <a:pt x="10800" y="8149"/>
                </a:lnTo>
                <a:cubicBezTo>
                  <a:pt x="10800" y="9187"/>
                  <a:pt x="5400" y="10225"/>
                  <a:pt x="0" y="10225"/>
                </a:cubicBezTo>
                <a:cubicBezTo>
                  <a:pt x="5400" y="10225"/>
                  <a:pt x="10800" y="11263"/>
                  <a:pt x="10800" y="12301"/>
                </a:cubicBezTo>
                <a:lnTo>
                  <a:pt x="10800" y="19524"/>
                </a:lnTo>
                <a:cubicBezTo>
                  <a:pt x="10800" y="2056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51"/>
          <p:cNvSpPr/>
          <p:nvPr/>
        </p:nvSpPr>
        <p:spPr>
          <a:xfrm flipH="1" flipV="1" rot="10800000">
            <a:off x="4175640" y="2972160"/>
            <a:ext cx="228600" cy="838440"/>
          </a:xfrm>
          <a:custGeom>
            <a:avLst/>
            <a:gdLst>
              <a:gd name="textAreaLeft" fmla="*/ 145800 w 228600"/>
              <a:gd name="textAreaRight" fmla="*/ 228600 w 228600"/>
              <a:gd name="textAreaTop" fmla="*/ 25200 h 838440"/>
              <a:gd name="textAreaBottom" fmla="*/ 8132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8"/>
                  <a:pt x="10800" y="2076"/>
                </a:cubicBezTo>
                <a:lnTo>
                  <a:pt x="10800" y="8149"/>
                </a:lnTo>
                <a:cubicBezTo>
                  <a:pt x="10800" y="9187"/>
                  <a:pt x="5400" y="10225"/>
                  <a:pt x="0" y="10225"/>
                </a:cubicBezTo>
                <a:cubicBezTo>
                  <a:pt x="5400" y="10225"/>
                  <a:pt x="10800" y="11263"/>
                  <a:pt x="10800" y="12301"/>
                </a:cubicBezTo>
                <a:lnTo>
                  <a:pt x="10800" y="19524"/>
                </a:lnTo>
                <a:cubicBezTo>
                  <a:pt x="10800" y="2056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52"/>
          <p:cNvSpPr/>
          <p:nvPr/>
        </p:nvSpPr>
        <p:spPr>
          <a:xfrm flipH="1" flipV="1" rot="10800000">
            <a:off x="4191480" y="4120200"/>
            <a:ext cx="228600" cy="1904760"/>
          </a:xfrm>
          <a:custGeom>
            <a:avLst/>
            <a:gdLst>
              <a:gd name="textAreaLeft" fmla="*/ 145800 w 228600"/>
              <a:gd name="textAreaRight" fmla="*/ 228600 w 228600"/>
              <a:gd name="textAreaTop" fmla="*/ 57240 h 1904760"/>
              <a:gd name="textAreaBottom" fmla="*/ 184752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8"/>
                  <a:pt x="10800" y="2076"/>
                </a:cubicBezTo>
                <a:lnTo>
                  <a:pt x="10800" y="8687"/>
                </a:lnTo>
                <a:cubicBezTo>
                  <a:pt x="10800" y="9725"/>
                  <a:pt x="5400" y="10763"/>
                  <a:pt x="0" y="10763"/>
                </a:cubicBezTo>
                <a:cubicBezTo>
                  <a:pt x="5400" y="10763"/>
                  <a:pt x="10800" y="11801"/>
                  <a:pt x="10800" y="12839"/>
                </a:cubicBezTo>
                <a:lnTo>
                  <a:pt x="10800" y="19524"/>
                </a:lnTo>
                <a:cubicBezTo>
                  <a:pt x="10800" y="2056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3"/>
          <p:cNvSpPr/>
          <p:nvPr/>
        </p:nvSpPr>
        <p:spPr>
          <a:xfrm>
            <a:off x="4435560" y="5262480"/>
            <a:ext cx="1260360" cy="228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wath #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4"/>
          <p:cNvSpPr/>
          <p:nvPr/>
        </p:nvSpPr>
        <p:spPr>
          <a:xfrm>
            <a:off x="4435560" y="5796000"/>
            <a:ext cx="1260360" cy="228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wath # N (5 or 6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55"/>
          <p:cNvSpPr/>
          <p:nvPr/>
        </p:nvSpPr>
        <p:spPr>
          <a:xfrm flipH="1" flipV="1" rot="10800000">
            <a:off x="6782400" y="4894200"/>
            <a:ext cx="228600" cy="1371600"/>
          </a:xfrm>
          <a:custGeom>
            <a:avLst/>
            <a:gdLst>
              <a:gd name="textAreaLeft" fmla="*/ 145800 w 228600"/>
              <a:gd name="textAreaRight" fmla="*/ 228600 w 228600"/>
              <a:gd name="textAreaTop" fmla="*/ 41040 h 1371600"/>
              <a:gd name="textAreaBottom" fmla="*/ 13305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8"/>
                  <a:pt x="10800" y="2076"/>
                </a:cubicBezTo>
                <a:lnTo>
                  <a:pt x="10800" y="8823"/>
                </a:lnTo>
                <a:cubicBezTo>
                  <a:pt x="10800" y="9861"/>
                  <a:pt x="5400" y="10899"/>
                  <a:pt x="0" y="10899"/>
                </a:cubicBezTo>
                <a:cubicBezTo>
                  <a:pt x="5400" y="10899"/>
                  <a:pt x="10800" y="11937"/>
                  <a:pt x="10800" y="12975"/>
                </a:cubicBezTo>
                <a:lnTo>
                  <a:pt x="10800" y="19524"/>
                </a:lnTo>
                <a:cubicBezTo>
                  <a:pt x="10800" y="2056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9" name="AutoShape 56"/>
          <p:cNvCxnSpPr>
            <a:stCxn id="222" idx="3"/>
            <a:endCxn id="263" idx="1"/>
          </p:cNvCxnSpPr>
          <p:nvPr/>
        </p:nvCxnSpPr>
        <p:spPr>
          <a:xfrm flipV="1">
            <a:off x="3401640" y="2185920"/>
            <a:ext cx="700920" cy="58140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57"/>
          <p:cNvCxnSpPr>
            <a:stCxn id="218" idx="3"/>
            <a:endCxn id="264" idx="1"/>
          </p:cNvCxnSpPr>
          <p:nvPr/>
        </p:nvCxnSpPr>
        <p:spPr>
          <a:xfrm>
            <a:off x="3403440" y="3087720"/>
            <a:ext cx="775440" cy="303840"/>
          </a:xfrm>
          <a:prstGeom prst="bentConnector3">
            <a:avLst>
              <a:gd name="adj1" fmla="val 49976"/>
            </a:avLst>
          </a:prstGeom>
          <a:ln w="367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58"/>
          <p:cNvCxnSpPr>
            <a:stCxn id="224" idx="3"/>
            <a:endCxn id="265" idx="1"/>
          </p:cNvCxnSpPr>
          <p:nvPr/>
        </p:nvCxnSpPr>
        <p:spPr>
          <a:xfrm>
            <a:off x="3402000" y="3695400"/>
            <a:ext cx="792720" cy="1377000"/>
          </a:xfrm>
          <a:prstGeom prst="bentConnector3">
            <a:avLst>
              <a:gd name="adj1" fmla="val 49977"/>
            </a:avLst>
          </a:prstGeom>
          <a:ln w="367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AutoShape 59"/>
          <p:cNvCxnSpPr>
            <a:stCxn id="259" idx="3"/>
            <a:endCxn id="268" idx="1"/>
          </p:cNvCxnSpPr>
          <p:nvPr/>
        </p:nvCxnSpPr>
        <p:spPr>
          <a:xfrm>
            <a:off x="5695560" y="5071680"/>
            <a:ext cx="1089720" cy="50688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tatus of Nimbus II HRI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44320" y="1188720"/>
            <a:ext cx="906444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9 boxes containing 1703 tapes were retrieved from F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-298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boxes (14 tapes) were left at FRC and will be retrieved and recovered by JBI in the next b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-298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boxes are missing and currently unaccounted for – currently looking to identify boxes with backup 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73 tapes were readable out of 1703 ta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-298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contained bad Orbit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-298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contained bad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of 1673 readable ta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-298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2 files had bad records out of 2278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-298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6 files had records with bad parity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tal of 6.7 GB were re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345600"/>
            <a:ext cx="9066240" cy="614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Nimbus 2 HRIR tap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CEB29-BFB1-45FF-BF66-CF3360BACEE9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1246320" y="1785960"/>
            <a:ext cx="8075520" cy="54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658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gest and Arch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t GES DI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93840" y="1265040"/>
            <a:ext cx="9069120" cy="547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406440" indent="-30456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ied requirements for new missions/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73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rage ( 7GB), processing power, offsite bac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73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l of Services (ftp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Search capabilities (ECHO-WIST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30456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ied file naming convention, developed utility to extract and create metadata files, and rename data files (File specs, temporal and spatial fields, orbit...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30456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d Directory Interchange Format (DIF) document used by Global Change Master Directory and README document describing data structure and format, Web page at GES DISC public Web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30456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gested and tested new products and metadata, published metadata to ECHO enabling access by W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30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imbus II HRIR data is now avail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73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aac.gsfc.nasa.gov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73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gcmd.nasa.gov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73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wist.echo.nasa.gov/~wist/api/imswelcom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30456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3A2D4F-D9C9-447D-8A8E-51C21CB3372B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ivalent Blackbody Temperature 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ate Placeholder 3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208AF1-62E8-41B7-B111-3338181D43E9}" type="datetime">
              <a:rPr b="0" lang="en-US" sz="15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A686E-0E81-43E5-8376-28F0CAD8DC80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773280" y="1189080"/>
            <a:ext cx="2004840" cy="58370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2906640" y="1189080"/>
            <a:ext cx="4267440" cy="3612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3"/>
          <a:stretch/>
        </p:blipFill>
        <p:spPr>
          <a:xfrm>
            <a:off x="5294160" y="4998960"/>
            <a:ext cx="4786560" cy="2384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"/>
          <p:cNvPicPr/>
          <p:nvPr/>
        </p:nvPicPr>
        <p:blipFill>
          <a:blip r:embed="rId4"/>
          <a:stretch/>
        </p:blipFill>
        <p:spPr>
          <a:xfrm>
            <a:off x="2982960" y="4923000"/>
            <a:ext cx="2365200" cy="2414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"/>
          <p:cNvPicPr/>
          <p:nvPr/>
        </p:nvPicPr>
        <p:blipFill>
          <a:blip r:embed="rId5"/>
          <a:stretch/>
        </p:blipFill>
        <p:spPr>
          <a:xfrm>
            <a:off x="7174080" y="1417680"/>
            <a:ext cx="306036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imbus II HRIR Confirms Airborne Lake Temperature 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Date Placeholder 3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B4FC6-2971-4066-B434-5DFD7B45B856}" type="datetime">
              <a:rPr b="0" lang="en-US" sz="15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F41CF-7822-4912-85B9-38872C034103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1992240" y="1122480"/>
            <a:ext cx="617544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Geo-location Issu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Date Placeholder 3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6A6A37-B317-41FD-8518-7D4B0C1113A9}" type="datetime">
              <a:rPr b="0" lang="en-US" sz="15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05095A-31BF-4E5C-81FF-686FF99E8664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620640" y="2182680"/>
            <a:ext cx="3522600" cy="52149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4506840" y="5380200"/>
            <a:ext cx="2408400" cy="203040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3"/>
          <p:cNvSpPr/>
          <p:nvPr/>
        </p:nvSpPr>
        <p:spPr>
          <a:xfrm>
            <a:off x="4506840" y="1417680"/>
            <a:ext cx="5334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Nimbus II era, geo-location was accomplished by creating lat-lon grids that would overlay the swath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user guide documentation does not give the algorithms to compute the latitudes and longitudes of temperature samples in the swa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3"/>
          <a:stretch/>
        </p:blipFill>
        <p:spPr>
          <a:xfrm>
            <a:off x="1763640" y="1189080"/>
            <a:ext cx="249084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apping to Equal Area Gr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Date Placeholder 3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2B3A4-3BF9-42D8-AE75-C2EF6BB2065B}" type="datetime">
              <a:rPr b="0" lang="en-US" sz="15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51FC7-46DD-44CA-BB32-D25952D7BE7B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468360" y="1646280"/>
            <a:ext cx="907416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mbus II HRIR Shows the Gulf Stream Location for Hurricane Alma Inten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Date Placeholder 3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6B2CC-12A5-496C-9353-76E7C1F423E1}" type="datetime">
              <a:rPr b="0" lang="en-US" sz="15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AC0D7-E45C-4026-BEA1-E5DC84CB7DAE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392040" y="1569960"/>
            <a:ext cx="943776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2040" y="3017520"/>
            <a:ext cx="9072720" cy="60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 marL="358920" indent="-35892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Date Placeholder 3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C2861-5685-4A62-810A-2847517F752A}" type="datetime">
              <a:rPr b="0" lang="en-US" sz="15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86401-E915-40FD-936A-D2D8AD7FF5EB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0280" y="351000"/>
            <a:ext cx="9069480" cy="6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231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IMBUS II Instruments Launched May 15, 19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227160" indent="-227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instruments collected Earth observations starting in M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880" indent="-21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Vidicon camera (AVCS) to provides television pictures of clouds in the earth's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880" indent="-21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resolution Infrared Radiometer (HRIR) to map the Earth's cloud cover at night and to measure the temperatures of cloud tops and terrain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880" indent="-21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um resolution infrared radiometer (MRIR) to measure electromagnetic radiation emitted and reflected from the earth and its atmosphere in five wavelength b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ate Placeholder 5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01F5CA-8D19-480B-BF3D-C0272A1985C6}" type="datetime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07083-1466-43CC-AD55-AAA4DF405E7F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2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E624E4-653A-49F6-87EA-6E2A2A8EC74D}" type="datetime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88F20-18B6-4C63-932F-1A9AA50EE951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73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DIF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"/>
          <p:cNvSpPr/>
          <p:nvPr/>
        </p:nvSpPr>
        <p:spPr>
          <a:xfrm>
            <a:off x="465120" y="1695600"/>
            <a:ext cx="91994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imbus I High Resolution Infrared Radiometer (HRIR) was designed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form two major functions: First, to map the Eath's cloud cover at n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complement the television coverage during the daytime portion of the orbi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second, to measure the ... temperature of cloud tops and terrain fe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ments taken during the daytime do not reveal true surface tempera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ce the radiometer operates in the 3.5 to 4.1 micron region and refl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ar radiation is added to emited surface radiation. However, reflected sunl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is spectral region does not saturate the radiometer output and us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ctures can be ma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data are stored in a binary TAP format (proprietary Tape emulated forma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HRIR instrument was launched on the Nimbus-2 satellite and was operat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May 16, 1966 through November 13, 19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Res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Resolution Range: 10 km - &lt; 50 km or approximately .09 degree - &lt; .5 deg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2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A4DE0B-4119-42B4-AADC-CDE7567128C8}" type="datetime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4B9B8-5685-486C-8148-BA23F68A1715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69480" cy="614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DIF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419040" y="2252520"/>
            <a:ext cx="11442600" cy="34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Set C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set Creator: Goddard Space Flight Center (GSFC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set Title: Nimbus-2 Level 2 Earth's cloudcover at night, and Temperature of cloud tops and terrain fea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set Release Date: April 10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set Release Place: Greenbelt, MD, U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set Publisher: Goddard Earth Science Data and Information Services(GES DISC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sion: 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Presentation Form: Digital Science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ine Resource: http://mirador.gsfc.nasa.gov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tribution Media: Online (HTTP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tribution Format: 36 bit IBM binary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es: No Fe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952509-620E-430E-AA7A-AFDBA97AEA92}" type="datetime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BF7AF-0C37-4263-A57B-17DF5D3DE5DD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73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XML metadat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9000"/>
          </a:bodyPr>
          <a:p>
            <a:pPr marL="336240" indent="-3362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ollection (shortname, longname, version)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Granule (granuleId, format, total size, insertion time, time of coverage)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Files (name, checksum, size)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Spatial attributes(list of latitudes and longitudes of gpolygons)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Product specifics (orbit, average elevation, station code, orbit time coverage)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2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8C3039-49CB-4B47-8E45-CF13630DEBED}" type="datetime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726A2-13C8-4DEB-ACD4-A5C0B327CFDF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658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Nimbus II HRIR orbit 119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1660680" y="2057400"/>
            <a:ext cx="6156000" cy="45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2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B3DB5-1648-48FA-A307-1F6F79DBB586}" type="datetime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B25E4-B0AA-4403-8F6B-2A7A1B149C19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2920" y="328320"/>
            <a:ext cx="9069480" cy="631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polygons for orbit 1190 at 10*10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1994040" y="21049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259920"/>
            <a:ext cx="9066240" cy="776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imbus 2 HRIR file naming con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74DA75-4362-447A-8525-8C738172D5DC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569880" y="2706840"/>
            <a:ext cx="8572680" cy="32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mbus2-HRIR-&lt;YYYYMMDD&gt;_&lt;hh-mm-ss&gt;_&lt;orbit&gt;_&lt;version&gt;.TAP whe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YYYMMDD is the starting date when the data was collected from the satellite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YYY: starting 4 digit calendar year (e.g. 1966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M: starting 2 digit month (e.g. 02 for February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D: starting 2 digit day of the year (e.g. 04 for day four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h-mm-ss is the starting time when the data was collected from the satellite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h     :  starting 2 digit hour (0-23) (e.g. 02 for hour 2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m: starting 2 digit minute (0-59) (e.g., 09 for 9 minute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s: starting 2 digit seconds (0-59) , (e.g. 11 for 11 second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bit is the orbit nu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sion is a 3 digit number (e.g. 001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: Nimbus2-HRIR-19660805_12-05-31_1245.T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345600"/>
            <a:ext cx="9067680" cy="69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Backup process diagra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9232C-44B5-4086-9152-29087865F40C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AutoShape 1"/>
          <p:cNvSpPr/>
          <p:nvPr/>
        </p:nvSpPr>
        <p:spPr>
          <a:xfrm>
            <a:off x="309600" y="1660680"/>
            <a:ext cx="4740120" cy="4141800"/>
          </a:xfrm>
          <a:prstGeom prst="roundRect">
            <a:avLst>
              <a:gd name="adj" fmla="val 3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3809880" y="2746440"/>
            <a:ext cx="928800" cy="928800"/>
            <a:chOff x="3809880" y="2746440"/>
            <a:chExt cx="928800" cy="928800"/>
          </a:xfrm>
        </p:grpSpPr>
        <p:sp>
          <p:nvSpPr>
            <p:cNvPr id="339" name="AutoShape 4"/>
            <p:cNvSpPr/>
            <p:nvPr/>
          </p:nvSpPr>
          <p:spPr>
            <a:xfrm>
              <a:off x="3809880" y="2746440"/>
              <a:ext cx="928800" cy="928800"/>
            </a:xfrm>
            <a:prstGeom prst="flowChartProcess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3898440" y="2945880"/>
              <a:ext cx="765360" cy="56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DL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r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841320" y="4230720"/>
            <a:ext cx="817560" cy="995400"/>
            <a:chOff x="841320" y="4230720"/>
            <a:chExt cx="817560" cy="995400"/>
          </a:xfrm>
        </p:grpSpPr>
        <p:sp>
          <p:nvSpPr>
            <p:cNvPr id="342" name="AutoShape 7"/>
            <p:cNvSpPr/>
            <p:nvPr/>
          </p:nvSpPr>
          <p:spPr>
            <a:xfrm>
              <a:off x="841320" y="4230720"/>
              <a:ext cx="817560" cy="995400"/>
            </a:xfrm>
            <a:prstGeom prst="flowChartMagneticDisk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63280" y="4539600"/>
              <a:ext cx="77616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A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vel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303640" y="2746440"/>
            <a:ext cx="928440" cy="928800"/>
            <a:chOff x="2303640" y="2746440"/>
            <a:chExt cx="928440" cy="928800"/>
          </a:xfrm>
        </p:grpSpPr>
        <p:sp>
          <p:nvSpPr>
            <p:cNvPr id="345" name="AutoShape 10"/>
            <p:cNvSpPr/>
            <p:nvPr/>
          </p:nvSpPr>
          <p:spPr>
            <a:xfrm>
              <a:off x="2303640" y="2746440"/>
              <a:ext cx="928440" cy="928800"/>
            </a:xfrm>
            <a:prstGeom prst="flowChartProcess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2325240" y="2923920"/>
              <a:ext cx="81576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Group 12"/>
          <p:cNvGrpSpPr/>
          <p:nvPr/>
        </p:nvGrpSpPr>
        <p:grpSpPr>
          <a:xfrm>
            <a:off x="731880" y="2679840"/>
            <a:ext cx="971640" cy="928440"/>
            <a:chOff x="731880" y="2679840"/>
            <a:chExt cx="971640" cy="928440"/>
          </a:xfrm>
        </p:grpSpPr>
        <p:sp>
          <p:nvSpPr>
            <p:cNvPr id="348" name="AutoShape 13"/>
            <p:cNvSpPr/>
            <p:nvPr/>
          </p:nvSpPr>
          <p:spPr>
            <a:xfrm>
              <a:off x="752040" y="2679840"/>
              <a:ext cx="928800" cy="928440"/>
            </a:xfrm>
            <a:prstGeom prst="flowChartProcess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Text Box 14"/>
            <p:cNvSpPr/>
            <p:nvPr/>
          </p:nvSpPr>
          <p:spPr>
            <a:xfrm>
              <a:off x="731880" y="2857320"/>
              <a:ext cx="97164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Group 15"/>
          <p:cNvGrpSpPr/>
          <p:nvPr/>
        </p:nvGrpSpPr>
        <p:grpSpPr>
          <a:xfrm>
            <a:off x="2370240" y="4230720"/>
            <a:ext cx="817560" cy="995400"/>
            <a:chOff x="2370240" y="4230720"/>
            <a:chExt cx="817560" cy="995400"/>
          </a:xfrm>
        </p:grpSpPr>
        <p:sp>
          <p:nvSpPr>
            <p:cNvPr id="351" name="AutoShape 16"/>
            <p:cNvSpPr/>
            <p:nvPr/>
          </p:nvSpPr>
          <p:spPr>
            <a:xfrm>
              <a:off x="2370240" y="4230720"/>
              <a:ext cx="817560" cy="995400"/>
            </a:xfrm>
            <a:prstGeom prst="flowChartMagneticDisk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Text Box 17"/>
            <p:cNvSpPr/>
            <p:nvPr/>
          </p:nvSpPr>
          <p:spPr>
            <a:xfrm>
              <a:off x="2391840" y="4539600"/>
              <a:ext cx="77652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A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vel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Group 18"/>
          <p:cNvGrpSpPr/>
          <p:nvPr/>
        </p:nvGrpSpPr>
        <p:grpSpPr>
          <a:xfrm>
            <a:off x="3765600" y="4230720"/>
            <a:ext cx="1173240" cy="817560"/>
            <a:chOff x="3765600" y="4230720"/>
            <a:chExt cx="1173240" cy="817560"/>
          </a:xfrm>
        </p:grpSpPr>
        <p:sp>
          <p:nvSpPr>
            <p:cNvPr id="354" name="AutoShape 19"/>
            <p:cNvSpPr/>
            <p:nvPr/>
          </p:nvSpPr>
          <p:spPr>
            <a:xfrm>
              <a:off x="3765600" y="4230720"/>
              <a:ext cx="1173240" cy="817560"/>
            </a:xfrm>
            <a:prstGeom prst="flowChartMagneticTap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20"/>
            <p:cNvSpPr/>
            <p:nvPr/>
          </p:nvSpPr>
          <p:spPr>
            <a:xfrm>
              <a:off x="3963600" y="4363560"/>
              <a:ext cx="765720" cy="56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DL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ap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Text Box 21"/>
          <p:cNvSpPr/>
          <p:nvPr/>
        </p:nvSpPr>
        <p:spPr>
          <a:xfrm>
            <a:off x="2016000" y="1882800"/>
            <a:ext cx="1416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ilding 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22"/>
          <p:cNvSpPr/>
          <p:nvPr/>
        </p:nvSpPr>
        <p:spPr>
          <a:xfrm>
            <a:off x="7199280" y="1727280"/>
            <a:ext cx="2259000" cy="4052880"/>
          </a:xfrm>
          <a:custGeom>
            <a:avLst/>
            <a:gdLst>
              <a:gd name="textAreaLeft" fmla="*/ 360 w 2259000"/>
              <a:gd name="textAreaRight" fmla="*/ 2258640 w 2259000"/>
              <a:gd name="textAreaTop" fmla="*/ 360 h 4052880"/>
              <a:gd name="textAreaBottom" fmla="*/ 4052520 h 4052880"/>
            </a:gdLst>
            <a:ahLst/>
            <a:rect l="textAreaLeft" t="textAreaTop" r="textAreaRight" b="textAreaBottom"/>
            <a:pathLst>
              <a:path w="21600" h="38750">
                <a:moveTo>
                  <a:pt x="15" y="0"/>
                </a:moveTo>
                <a:arcTo wR="15" hR="15" stAng="16200000" swAng="-5400000"/>
                <a:lnTo>
                  <a:pt x="0" y="38735"/>
                </a:lnTo>
                <a:arcTo wR="15" hR="15" stAng="10800000" swAng="-5400000"/>
                <a:lnTo>
                  <a:pt x="21585" y="38750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7575480" y="1949400"/>
            <a:ext cx="1416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ilding 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24"/>
          <p:cNvSpPr/>
          <p:nvPr/>
        </p:nvSpPr>
        <p:spPr>
          <a:xfrm>
            <a:off x="5516640" y="3278160"/>
            <a:ext cx="1328760" cy="331920"/>
          </a:xfrm>
          <a:prstGeom prst="rightArrow">
            <a:avLst>
              <a:gd name="adj1" fmla="val 50000"/>
              <a:gd name="adj2" fmla="val 10008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5361120" y="2946240"/>
            <a:ext cx="1363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ve ta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26"/>
          <p:cNvSpPr/>
          <p:nvPr/>
        </p:nvSpPr>
        <p:spPr>
          <a:xfrm>
            <a:off x="5494320" y="4430880"/>
            <a:ext cx="1262160" cy="331560"/>
          </a:xfrm>
          <a:prstGeom prst="leftArrow">
            <a:avLst>
              <a:gd name="adj1" fmla="val 50000"/>
              <a:gd name="adj2" fmla="val 9516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27"/>
          <p:cNvSpPr/>
          <p:nvPr/>
        </p:nvSpPr>
        <p:spPr>
          <a:xfrm>
            <a:off x="1239840" y="3587760"/>
            <a:ext cx="144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28"/>
          <p:cNvSpPr/>
          <p:nvPr/>
        </p:nvSpPr>
        <p:spPr>
          <a:xfrm>
            <a:off x="2724120" y="3676680"/>
            <a:ext cx="1440" cy="55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29"/>
          <p:cNvSpPr/>
          <p:nvPr/>
        </p:nvSpPr>
        <p:spPr>
          <a:xfrm>
            <a:off x="4280040" y="3651120"/>
            <a:ext cx="1440" cy="5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30"/>
          <p:cNvSpPr/>
          <p:nvPr/>
        </p:nvSpPr>
        <p:spPr>
          <a:xfrm flipV="1">
            <a:off x="552600" y="2433240"/>
            <a:ext cx="423216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31"/>
          <p:cNvSpPr/>
          <p:nvPr/>
        </p:nvSpPr>
        <p:spPr>
          <a:xfrm flipV="1">
            <a:off x="1174680" y="2473200"/>
            <a:ext cx="180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Line 32"/>
          <p:cNvSpPr/>
          <p:nvPr/>
        </p:nvSpPr>
        <p:spPr>
          <a:xfrm flipV="1">
            <a:off x="2768760" y="2453760"/>
            <a:ext cx="144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 flipH="1" flipV="1">
            <a:off x="4205160" y="2455920"/>
            <a:ext cx="7920" cy="29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34"/>
          <p:cNvSpPr/>
          <p:nvPr/>
        </p:nvSpPr>
        <p:spPr>
          <a:xfrm>
            <a:off x="5405400" y="3898800"/>
            <a:ext cx="14526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 ta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6 month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35"/>
          <p:cNvSpPr/>
          <p:nvPr/>
        </p:nvSpPr>
        <p:spPr>
          <a:xfrm>
            <a:off x="7775640" y="2703600"/>
            <a:ext cx="1085760" cy="1306440"/>
          </a:xfrm>
          <a:custGeom>
            <a:avLst/>
            <a:gdLst>
              <a:gd name="textAreaLeft" fmla="*/ 360 w 1085760"/>
              <a:gd name="textAreaRight" fmla="*/ 1085400 w 1085760"/>
              <a:gd name="textAreaTop" fmla="*/ 360 h 1306440"/>
              <a:gd name="textAreaBottom" fmla="*/ 1306080 h 1306440"/>
            </a:gdLst>
            <a:ahLst/>
            <a:rect l="textAreaLeft" t="textAreaTop" r="textAreaRight" b="textAreaBottom"/>
            <a:pathLst>
              <a:path w="21600" h="25989">
                <a:moveTo>
                  <a:pt x="31" y="0"/>
                </a:moveTo>
                <a:arcTo wR="31" hR="31" stAng="16200000" swAng="-5400000"/>
                <a:lnTo>
                  <a:pt x="0" y="25958"/>
                </a:lnTo>
                <a:arcTo wR="31" hR="31" stAng="10800000" swAng="-5400000"/>
                <a:lnTo>
                  <a:pt x="21569" y="25989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7885080" y="2901960"/>
            <a:ext cx="7668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c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69480" cy="69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Data Backup &amp; Recovery proces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47760" y="1855800"/>
            <a:ext cx="9069120" cy="489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20840" indent="-31608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mbus II HRIR data is stored on primary server into RAID (level 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on secondary server into RAID (level 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840" indent="-31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aily local backup of new or updated products is made on SDLT tape (stored in B32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840" indent="-31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 remote backup of a Volume on SDLT tape (stored in building 28) when a Volume is filled (100 GB) or a Volume is closed (i.e. in the case of Nimbus II HRIR that holds only 6.7 GB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840" indent="-316080">
              <a:lnSpc>
                <a:spcPct val="7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remote backup tapes are tested every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840" indent="-316080">
              <a:lnSpc>
                <a:spcPct val="7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lost or damaged is recovered from the local backup or remote backup ta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840" indent="-316080">
              <a:lnSpc>
                <a:spcPct val="7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ckup of Nimbus II HRIR data is part of the standard GES DISC operating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5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7D17D2-CDEE-4388-83A0-19935A9DA936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73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Documents Backup &amp; Recover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D5505-A83A-4DE7-A9BA-E5815AE045E9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"/>
          <p:cNvSpPr/>
          <p:nvPr/>
        </p:nvSpPr>
        <p:spPr>
          <a:xfrm>
            <a:off x="503280" y="1768320"/>
            <a:ext cx="90694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0840" indent="-31608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5648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imbus II HRIR documents are stored into RAID (level 5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5648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aily backup on DLT tape and disk of new documents (tapes stored in B32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5648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eekly backup on DLT tape of documents (tapes stored in B28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69480" cy="69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HRIR instru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265040"/>
            <a:ext cx="9069480" cy="5857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canning radiometer, using a 3.5 - 4.1 micron filter and Lead Selenide (PbSe) photoconductive detector cell radiatively cooled to -75 deg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measurements of blackbody temperatures between 210K - 33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ise equivalent ~1 degree C for a 250K backgrou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-synchronous, 108 minute nodal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ning coincident with spacecraft velocity vector (no yaw err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 mirror inclined 45 degrees to axis of rotation (scans perpendicular to flight pa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 rate operation of 44.7 revolutions per minute provides a scan line separation of 8.3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taneous field-of-view of 8.7 milliradians provides ground resolution of 8 km at an altitude of 1110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was excellent until orbit 2455 when the tape recorder fa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ime period of data coverage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 May 1966 (Julian day 136) through 13 Nov 1966 (Julian day 31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data collected during nighttime part of orb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nt 200-Hz interference – observed pre-launch – associated with AC noise on bus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calibration in good agreement with pre-launch 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HRIR detector, after stabilizing at -7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post launch, exhibits a warming trend and became nominal at -6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heating detector cell decreased the signal to noise ratio from 20 to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ate Placeholder 5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FC50C-312B-4BD4-9216-F1D8438C3351}" type="datetime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3B54D4-C2B9-4F2A-9063-ECE412634989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69480" cy="614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Nimbus II HRIR Inventory &amp; Dat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03280" y="1188720"/>
            <a:ext cx="6137280" cy="3429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19040" indent="-314280">
              <a:lnSpc>
                <a:spcPct val="87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imbus II HRIR data was sent to the National Archives and Records Administration Washington National Records Center in the late 1960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2600">
              <a:lnSpc>
                <a:spcPct val="87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imbus II HRIR was stored on 7-track reel-to-reel computer tapes (primary and second copy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in boxes on shelves at a secure and environmentally controlled fac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D5BFDA-5E7D-4F9A-85DF-489842827E40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5" descr="C:\Documents and Settings\jfmoses\Desktop\100_3858.JPG"/>
          <p:cNvPicPr/>
          <p:nvPr/>
        </p:nvPicPr>
        <p:blipFill>
          <a:blip r:embed="rId1"/>
          <a:stretch/>
        </p:blipFill>
        <p:spPr>
          <a:xfrm>
            <a:off x="6488280" y="1722600"/>
            <a:ext cx="3344760" cy="25146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544680" y="4694400"/>
            <a:ext cx="92613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19040" indent="-314280">
              <a:lnSpc>
                <a:spcPct val="87000"/>
              </a:lnSpc>
              <a:spcBef>
                <a:spcPts val="649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 inventory of the Nimbus II HRIR data collection was maintained at NASA Space Science Data Cen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282600">
              <a:lnSpc>
                <a:spcPct val="87000"/>
              </a:lnSpc>
              <a:spcBef>
                <a:spcPts val="649"/>
              </a:spcBef>
              <a:buClr>
                <a:srgbClr val="000000"/>
              </a:buClr>
              <a:buSzPct val="45000"/>
              <a:buFont typeface="Arial"/>
              <a:buChar char="–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lectronic list of Nimbus II HRIR tapes and the associated Federal Record Center accession and box numb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282600">
              <a:lnSpc>
                <a:spcPct val="87000"/>
              </a:lnSpc>
              <a:spcBef>
                <a:spcPts val="649"/>
              </a:spcBef>
              <a:buClr>
                <a:srgbClr val="000000"/>
              </a:buClr>
              <a:buSzPct val="45000"/>
              <a:buFont typeface="Arial"/>
              <a:buChar char="–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he list shows 7 tape numbers per bo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538676-92EA-4EFF-98F3-965E3E7D88B9}" type="datetime">
              <a:rPr b="0" lang="en-GB" sz="15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5F7ECC-66AD-49D4-B311-5941D70F5673}" type="slidenum">
              <a:rPr b="0" lang="en-GB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69480" cy="69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Nimbus Recovery Project Goal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7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Recover the Nimbus II HRIR data collection from the 7-track tapes stored at the Federal Records Cent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7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Archive Nimbus II HRIR at the Goddard Data Information Services Center (DISC) and make the data and documentation available to users via the interne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87000"/>
              </a:lnSpc>
              <a:spcBef>
                <a:spcPts val="7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BE909-EC85-4A88-8438-CE71C612355F}" type="datetime">
              <a:rPr b="0" lang="en-GB" sz="15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E6073-F02D-4B96-9D6A-2CAECEA643B5}" type="slidenum">
              <a:rPr b="0" lang="en-GB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345600"/>
            <a:ext cx="9067680" cy="69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Recovery Methodolog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1265400"/>
            <a:ext cx="9261360" cy="5867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41200" indent="-217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covery process uses specially developed tape drives, bit detection and processing techniques to read the 800 bpi, 7-track t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Bordynuik Inc, Niagara Falls, Ontario,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ng 1-2% will be unrecoverable, some tapes are missing, some have missing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1200" indent="-21744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dures involve sending the primary tape collection for recovery, checking the number of tapes and files processed against NSSDC inven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1200" indent="-21744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ing missing or unreadable tapes, repeating the process with the backup tape, destroying the tapes once off-site backups are sec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1200" indent="-21744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ing code to unpack HRIR data, analyze and validate against the user guide and results found in research papers and jour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1200" indent="-21744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gesting HRIR into DISC S4PA, ensuring the backup is secure, preparing EOSDIS-like metadata and documentation and making data available via GES DISC web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1200" indent="-21744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lidating the data with the current science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73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Nimbus II HRIR Document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02920" y="1417320"/>
            <a:ext cx="9063000" cy="5243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d copy from NASA Space Science Data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ronic copy from on-line access to NASA Technical Report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 Documentation and Companion Technical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mbus Project 1966: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Nimbus II User’s Gui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GSFC, Greenbelt, MD., 229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mbus Project 1966: Nimbus II Data Catalog, GSFC, Greenbelt, MD., Vol. 2, 298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cNaney, J.J, Palmer, General Electric Co., and R. Shapiro, GSFC, 1969: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Nimbus II Flight Evaluation and Engineering Report (Launch through orbit 5275), NASA Technical Note D-4881,199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iamson, E. J.,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1969: The accuracy of The High Resolution Infrared Radiometer on Nimbus II. GSFC, Greenbelt, MD, NASA TN-D-5551, 14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49913-B3DA-4BA1-B84B-3DF2DD710536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73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imbus II HRIR Data Recovery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D9920-555F-44A9-B7AF-9E5712CF529D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"/>
          <p:cNvSpPr/>
          <p:nvPr/>
        </p:nvSpPr>
        <p:spPr>
          <a:xfrm>
            <a:off x="190440" y="4816440"/>
            <a:ext cx="9715680" cy="2530440"/>
          </a:xfrm>
          <a:prstGeom prst="roundRect">
            <a:avLst>
              <a:gd name="adj" fmla="val 60"/>
            </a:avLst>
          </a:prstGeom>
          <a:noFill/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217440" y="1387440"/>
            <a:ext cx="9715680" cy="2774880"/>
          </a:xfrm>
          <a:prstGeom prst="roundRect">
            <a:avLst>
              <a:gd name="adj" fmla="val 56"/>
            </a:avLst>
          </a:prstGeom>
          <a:noFill/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Group 4"/>
          <p:cNvGrpSpPr/>
          <p:nvPr/>
        </p:nvGrpSpPr>
        <p:grpSpPr>
          <a:xfrm>
            <a:off x="423720" y="2108160"/>
            <a:ext cx="1776600" cy="1332000"/>
            <a:chOff x="423720" y="2108160"/>
            <a:chExt cx="1776600" cy="1332000"/>
          </a:xfrm>
        </p:grpSpPr>
        <p:sp>
          <p:nvSpPr>
            <p:cNvPr id="180" name="AutoShape 5"/>
            <p:cNvSpPr/>
            <p:nvPr/>
          </p:nvSpPr>
          <p:spPr>
            <a:xfrm>
              <a:off x="423720" y="2108160"/>
              <a:ext cx="1776600" cy="1332000"/>
            </a:xfrm>
            <a:prstGeom prst="roundRect">
              <a:avLst>
                <a:gd name="adj" fmla="val 11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80600" y="2379240"/>
              <a:ext cx="162756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NASA reques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dentify N2 tap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equest N2 boxe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Group 7"/>
          <p:cNvGrpSpPr/>
          <p:nvPr/>
        </p:nvGrpSpPr>
        <p:grpSpPr>
          <a:xfrm>
            <a:off x="5041800" y="2090880"/>
            <a:ext cx="1830600" cy="1331640"/>
            <a:chOff x="5041800" y="2090880"/>
            <a:chExt cx="1830600" cy="1331640"/>
          </a:xfrm>
        </p:grpSpPr>
        <p:sp>
          <p:nvSpPr>
            <p:cNvPr id="183" name="AutoShape 8"/>
            <p:cNvSpPr/>
            <p:nvPr/>
          </p:nvSpPr>
          <p:spPr>
            <a:xfrm>
              <a:off x="5041800" y="2090880"/>
              <a:ext cx="1830600" cy="1331640"/>
            </a:xfrm>
            <a:prstGeom prst="roundRect">
              <a:avLst>
                <a:gd name="adj" fmla="val 11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9"/>
            <p:cNvSpPr/>
            <p:nvPr/>
          </p:nvSpPr>
          <p:spPr>
            <a:xfrm>
              <a:off x="5098680" y="2359800"/>
              <a:ext cx="1582920" cy="62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JBI resto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estore N2 tap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end N2 TAP files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10"/>
          <p:cNvGrpSpPr/>
          <p:nvPr/>
        </p:nvGrpSpPr>
        <p:grpSpPr>
          <a:xfrm>
            <a:off x="2620800" y="2104920"/>
            <a:ext cx="2094120" cy="1332000"/>
            <a:chOff x="2620800" y="2104920"/>
            <a:chExt cx="2094120" cy="1332000"/>
          </a:xfrm>
        </p:grpSpPr>
        <p:sp>
          <p:nvSpPr>
            <p:cNvPr id="186" name="AutoShape 11"/>
            <p:cNvSpPr/>
            <p:nvPr/>
          </p:nvSpPr>
          <p:spPr>
            <a:xfrm>
              <a:off x="2620800" y="2104920"/>
              <a:ext cx="2094120" cy="1332000"/>
            </a:xfrm>
            <a:prstGeom prst="roundRect">
              <a:avLst>
                <a:gd name="adj" fmla="val 11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2647440" y="2376000"/>
              <a:ext cx="201024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FRC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etrieve N2 box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end  N2 boxes to JB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88" name="AutoShape 13"/>
          <p:cNvCxnSpPr/>
          <p:nvPr/>
        </p:nvCxnSpPr>
        <p:spPr>
          <a:xfrm flipV="1">
            <a:off x="2201760" y="2770920"/>
            <a:ext cx="419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AutoShape 14"/>
          <p:cNvCxnSpPr/>
          <p:nvPr/>
        </p:nvCxnSpPr>
        <p:spPr>
          <a:xfrm flipV="1">
            <a:off x="4716360" y="2756880"/>
            <a:ext cx="326160" cy="1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0" name="Group 15"/>
          <p:cNvGrpSpPr/>
          <p:nvPr/>
        </p:nvGrpSpPr>
        <p:grpSpPr>
          <a:xfrm>
            <a:off x="7318440" y="2044800"/>
            <a:ext cx="2322360" cy="1433520"/>
            <a:chOff x="7318440" y="2044800"/>
            <a:chExt cx="2322360" cy="1433520"/>
          </a:xfrm>
        </p:grpSpPr>
        <p:sp>
          <p:nvSpPr>
            <p:cNvPr id="191" name="AutoShape 16"/>
            <p:cNvSpPr/>
            <p:nvPr/>
          </p:nvSpPr>
          <p:spPr>
            <a:xfrm>
              <a:off x="7318440" y="2044800"/>
              <a:ext cx="2322360" cy="1433520"/>
            </a:xfrm>
            <a:prstGeom prst="roundRect">
              <a:avLst>
                <a:gd name="adj" fmla="val 10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7"/>
            <p:cNvSpPr/>
            <p:nvPr/>
          </p:nvSpPr>
          <p:spPr>
            <a:xfrm>
              <a:off x="7356240" y="2098440"/>
              <a:ext cx="2198520" cy="12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NASA Validation &amp; Q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ssess completenes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valuate data qual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xtract / store each TAP fi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ename TAP fil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dentify / Select duplic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Document process / statu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ollect Nimbus II do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" name="Group 18"/>
          <p:cNvGrpSpPr/>
          <p:nvPr/>
        </p:nvGrpSpPr>
        <p:grpSpPr>
          <a:xfrm>
            <a:off x="5811840" y="5762520"/>
            <a:ext cx="2322360" cy="1417680"/>
            <a:chOff x="5811840" y="5762520"/>
            <a:chExt cx="2322360" cy="1417680"/>
          </a:xfrm>
        </p:grpSpPr>
        <p:sp>
          <p:nvSpPr>
            <p:cNvPr id="194" name="AutoShape 19"/>
            <p:cNvSpPr/>
            <p:nvPr/>
          </p:nvSpPr>
          <p:spPr>
            <a:xfrm>
              <a:off x="5811840" y="5762520"/>
              <a:ext cx="2322360" cy="1417680"/>
            </a:xfrm>
            <a:prstGeom prst="roundRect">
              <a:avLst>
                <a:gd name="adj" fmla="val 10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20"/>
            <p:cNvSpPr/>
            <p:nvPr/>
          </p:nvSpPr>
          <p:spPr>
            <a:xfrm>
              <a:off x="5851080" y="5814720"/>
              <a:ext cx="2198520" cy="13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NASA Ingest &amp; Arch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dentify requiremen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Develop DIF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Develop READM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Develop DISC web pag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gest / archive  into S4P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ublish to ECH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est dev /TS1/ o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96" name="AutoShape 21"/>
          <p:cNvCxnSpPr/>
          <p:nvPr/>
        </p:nvCxnSpPr>
        <p:spPr>
          <a:xfrm>
            <a:off x="6873480" y="2757240"/>
            <a:ext cx="4453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Text Box 22"/>
          <p:cNvSpPr/>
          <p:nvPr/>
        </p:nvSpPr>
        <p:spPr>
          <a:xfrm>
            <a:off x="353880" y="1604880"/>
            <a:ext cx="2278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Data Resto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3"/>
          <p:cNvSpPr/>
          <p:nvPr/>
        </p:nvSpPr>
        <p:spPr>
          <a:xfrm>
            <a:off x="326880" y="4844880"/>
            <a:ext cx="40784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Data Ingest / archive / servic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24"/>
          <p:cNvSpPr/>
          <p:nvPr/>
        </p:nvSpPr>
        <p:spPr>
          <a:xfrm>
            <a:off x="8572680" y="3510000"/>
            <a:ext cx="26640" cy="29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25"/>
          <p:cNvSpPr/>
          <p:nvPr/>
        </p:nvSpPr>
        <p:spPr>
          <a:xfrm flipH="1" flipV="1">
            <a:off x="8083440" y="6444720"/>
            <a:ext cx="549360" cy="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Group 26"/>
          <p:cNvGrpSpPr/>
          <p:nvPr/>
        </p:nvGrpSpPr>
        <p:grpSpPr>
          <a:xfrm>
            <a:off x="2781360" y="5486400"/>
            <a:ext cx="2595600" cy="1738440"/>
            <a:chOff x="2781360" y="5486400"/>
            <a:chExt cx="2595600" cy="1738440"/>
          </a:xfrm>
        </p:grpSpPr>
        <p:sp>
          <p:nvSpPr>
            <p:cNvPr id="202" name="AutoShape 27"/>
            <p:cNvSpPr/>
            <p:nvPr/>
          </p:nvSpPr>
          <p:spPr>
            <a:xfrm>
              <a:off x="2781360" y="5486400"/>
              <a:ext cx="2595600" cy="1738440"/>
            </a:xfrm>
            <a:prstGeom prst="roundRect">
              <a:avLst>
                <a:gd name="adj" fmla="val 10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8"/>
            <p:cNvSpPr/>
            <p:nvPr/>
          </p:nvSpPr>
          <p:spPr>
            <a:xfrm>
              <a:off x="2825280" y="5551200"/>
              <a:ext cx="2456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NASA backup &amp; recovery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ore data into RAID (level 5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nerate daily backup (new or updated products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ull backup of filled/closed volumes (100 GB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ove tapes to remote location  (weekly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ead entire collection of remote tapes (6 months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estore lost / damaged data from backup tap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Line 29"/>
          <p:cNvSpPr/>
          <p:nvPr/>
        </p:nvSpPr>
        <p:spPr>
          <a:xfrm flipH="1" flipV="1">
            <a:off x="5369040" y="6521400"/>
            <a:ext cx="43488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Group 30"/>
          <p:cNvGrpSpPr/>
          <p:nvPr/>
        </p:nvGrpSpPr>
        <p:grpSpPr>
          <a:xfrm>
            <a:off x="500040" y="5575320"/>
            <a:ext cx="1908360" cy="1332000"/>
            <a:chOff x="500040" y="5575320"/>
            <a:chExt cx="1908360" cy="1332000"/>
          </a:xfrm>
        </p:grpSpPr>
        <p:sp>
          <p:nvSpPr>
            <p:cNvPr id="206" name="AutoShape 31"/>
            <p:cNvSpPr/>
            <p:nvPr/>
          </p:nvSpPr>
          <p:spPr>
            <a:xfrm>
              <a:off x="500040" y="5575320"/>
              <a:ext cx="1908360" cy="1332000"/>
            </a:xfrm>
            <a:prstGeom prst="roundRect">
              <a:avLst>
                <a:gd name="adj" fmla="val 11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32"/>
            <p:cNvSpPr/>
            <p:nvPr/>
          </p:nvSpPr>
          <p:spPr>
            <a:xfrm>
              <a:off x="561600" y="5846400"/>
              <a:ext cx="174816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NASA reques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JBI destroys primary N2 tap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2 backup tapes are destroy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Line 33"/>
          <p:cNvSpPr/>
          <p:nvPr/>
        </p:nvSpPr>
        <p:spPr>
          <a:xfrm flipH="1" flipV="1">
            <a:off x="2368080" y="6340320"/>
            <a:ext cx="43524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RIR datase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03280" y="1189080"/>
            <a:ext cx="9074160" cy="556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imbus HRIR data storage was based on a 36-bit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word = 36 bits;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most cases the last bit is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tapes are stored in 8 bi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ignificant bit (7)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when a byte could not be restored from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when a byte was successfully restored from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6 is the parity bit read from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0-5 are data bits read from tap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 records listing the Data record lengths are interleaved with Data recor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word of 36 bits with a scaling factor of s is converted in real by using the re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 = (integer value of 36 bits) / (2**(35-s)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word can be split into 2 half words ( 18 bits each).  WordD ( bits 1-18), wordA (bits 19-36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wordD of 18bits with a scaling factor of s is converted in real by using the re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 = (integer value of 18 bits) / (2**(17-s)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wordA of 18bits with a scaling factor of s is converted in real by using the re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 = (integer value of 18 bits) / (2**(35-s)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DA250-1247-4056-A9D9-5EAD7E6F092B}" type="datetime">
              <a:rPr b="0" lang="en-US" sz="15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46161-672A-4941-91CD-FF8C7768DCB6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fmoses</cp:lastModifiedBy>
  <dcterms:modified xsi:type="dcterms:W3CDTF">2009-07-09T15:01:40Z</dcterms:modified>
  <cp:revision>67</cp:revision>
  <dc:subject/>
  <dc:title>Slide 1</dc:title>
</cp:coreProperties>
</file>